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C4D-AB62-4BBE-9B32-3EF68178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780-82AB-4D16-904F-AF429E6B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A89CD-6A37-4BFA-9D2D-1FDE3652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652C9-E302-4FDF-BFF8-276DF9E4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54F7D-74D7-43E6-8832-E13A3943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2B32E-CBBF-45C9-B708-6828563C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DB792-BB47-4B85-93E0-E5971A8B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5FCE6-415D-4811-90E6-C8587EAB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71341-91F7-4A05-8076-7ABB8ED8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BFD13-5F94-40F7-BBC6-7E9E1B40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3CDD5-CEDE-40B6-A426-494366AE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EF543-81FA-4AB5-9464-862EE381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8CB-F23D-49AD-9952-8BB40AB3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43ED6-3E77-480E-834E-27054F2D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7318B-C11E-4C5E-810E-639406E2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7E538-1F65-4C21-BDF8-2B6709E4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537AA-F4EF-4FBB-AB00-A8A106C5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80C20-9367-4637-ADDD-E06A973E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E10E4-5400-41E8-8311-B09CB12C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C0683-FE59-4ADA-9F4B-FFAFAE0B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32B35-C8DD-40D3-946D-8A504C74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5518C-6423-49EA-B09B-0EA86D86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9DBCC-8044-4D22-87F2-E6FAA9E2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F9D-2F29-455F-A861-0A3564A2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ABBFE-1F26-4146-AAB2-5590164C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EC219-04E8-43F8-982D-A22D72BE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257D5-18DA-42EB-A9CC-3074481F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9C2B0-6B80-4A46-A4FE-EE2D5016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550FE-84BB-4CFD-88B6-8E0E09F9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9DEAF-CF7E-40D0-9895-DC23B436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50D8D-5698-44F0-9FE3-DE421BB8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23A09-4B8C-4561-98FF-6D9E81F2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244CD-1594-4CF9-839E-A3D9DA34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9014E-F999-4154-B822-69DA9854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7E87-9585-4C9D-980C-691BACEC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E819A-D1C3-4E92-AC3C-62CA289F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0FB8E-2C37-4E7B-BF83-9B46BC4C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373F7-EB61-47B0-AE8E-16CBCABF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87E5C-6958-4116-9355-4C3C01D3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F205A-D5FC-4493-93F0-71EFAA22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6DE29-E7A7-46C8-8286-99A38053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9C7BA-E6AF-4050-89A5-E7C303B9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EDB4E-551E-4378-9891-BAFE4A21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706C0-4463-4FB4-B4FF-BB364A6A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544BD-CDFF-45EC-8C78-774281C9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CD7C-8539-44F7-9309-48E5EF77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1308A-9DBD-4426-ABBA-24F8490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5BA1D-3BF3-48A3-B9CF-D62D2A37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29C2C-593E-4C1A-8250-E39DC384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1A019-EE19-43BE-B212-59D00ABB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74D22-1E2C-4CD8-AC17-BEDB3571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557A-1DF7-4004-9682-05861E0D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0463-EB14-4C4E-A255-8765FD39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08E9-3804-404C-8032-3C7DFCC0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11B2-BB30-4B6F-9CB2-80D0D430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2B13-7779-4B36-9969-98C015CF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3FF-B6F6-411B-952E-FD1F1116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F1AA-16C3-4C56-A565-127E9329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C3CE-00A1-4F68-8B62-EC43E250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905A-B219-426C-AD2F-4D0E2FCA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5FDD-EBFB-434E-921A-0C596D5B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FB36-09B6-4FBD-BCBB-C67141FC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A1E1-0A27-441E-ADFE-6669E7DC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1269A-BD0A-48AD-BD97-D57C92F6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79C6-B73B-4C3B-877D-6BE22DE6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5CA41-4071-4D3C-BA68-59A61C9A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3669-A60D-421B-BE24-90DE8918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8A9-DD6C-4752-996E-05541F41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CE12-C352-431A-80ED-27235A0C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3957-FC2A-495F-811D-0A5B3A60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B8FB-10E9-4747-A8E6-7C55E468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75FC-DC1D-43E9-A7B9-C83D1F13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FC52-A5B2-460E-98CB-0AFD9E2E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E30D7-806A-42A0-94B3-CCBD2487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6F89-1BAC-4FC2-B307-83C4750C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54A33-A4D1-45FC-B769-855FFEC1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3C30A-1069-4A87-B8EA-9BC6E5A9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B13BC-0094-479D-A675-5DAFA7FE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A6D-5980-451C-B0D0-779FD297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C2E46-BB02-495A-AE32-783102A6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6CB8D-5221-48B0-9BC0-8ACB080B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15EB-4441-4FC3-BC85-306CD0F6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8BAC-D11B-4725-8AB6-14DFEB79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06BBC-654A-413C-BFFB-61DB9A85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44977-00D8-4A29-B844-47E90D92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B57BE-15A4-414D-8942-25A5A182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53B81-7E91-4DA8-8731-465EA2CE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FAB46-552D-4849-BD32-AFF19DB0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494CE-C95B-441F-BF04-BBBBC219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1FD-2F78-461D-BADA-43AD8E7E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1A389-B35A-456C-A4B1-2DED16DE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187B5-9ACE-427E-8808-ABB6FA13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28091-3107-404C-89E8-64D53466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B03C3-ACBE-491F-B767-93AA0A42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C24D-B3E8-4227-9B98-E58B7B91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82C11-ABF0-44A1-9633-F09A00C5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334AC-5A43-4F9A-978A-69E3DF65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F6639-26E1-4AF3-A167-8166A8E1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21491-6A8E-4445-8A52-56B9D198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B5DA3-27EB-4B31-8D4B-81F9AC90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4AE-1080-445D-B53E-8881D52C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D118D-1DCC-46DC-9A89-6D904581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0ED5C-2428-4A60-B320-0C92C1FB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DE46F-CA02-4B0B-A224-F474BB31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B10A9-311F-4438-96CB-163D7B99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1C8ED-208A-44F1-8B19-0B16C8A4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98635-7EE4-40C5-B8F6-13A969D7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E3DB8-9AC0-48B5-88A9-4EBA8DAA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45780-521C-4267-A7A4-7652A8DB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2A104-FD0D-4077-916F-982F7701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C40ED-6791-40E1-8DA7-A03AD216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7CF-3855-47C2-B7DB-D1E502D4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D59CA-99A1-47F5-BEBB-8E94900B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2F1B4-7128-48B5-A6B3-DB02C5C8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18C4A-6534-45AF-9E8C-E56C7C44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48FCE-39D2-4D73-B88B-A094D1DD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8803F-FFFB-46EE-81B4-F41FCBA4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F40DE-6F8F-497C-911D-AFC8B2B9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CC3FF-79EA-411B-87AD-8408D402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77A9B-B528-4757-A341-B2F73240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A2547-976A-4251-905E-804B650A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A2CF1-F0AC-4F8D-95C8-43E673D2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B88-5C33-483D-A821-8F94C3D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6BC80-9ECE-441B-AF87-38E88CB1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D5AB9-6218-410F-BBD2-C38EE106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C9363-9CD6-49CF-A179-AABB9197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71E6E-E976-455F-96CB-C2D48F65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ABE57-77D6-446E-AF26-121B4C1F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9967E-3DA6-453D-85AE-F087329A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C46BB-2725-4787-8AEE-BB460061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E2F9E-9513-4FFA-B751-5FD5CADA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27C43-0836-4200-B58F-1C9FE1FD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6DF0B-2639-4608-A7E2-24A54824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CAE-903B-42A2-BFF8-7132C1D5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9A510-ECC1-4E3F-BDAA-46263A13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BFDB8-DB75-4491-BB07-F56CBE0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0DAEF-8C35-41ED-B528-6D774457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C0B2B-CE1C-4849-BE7F-3A6137F4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723A9-8136-46E7-ABE2-D2CBB822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C7863-796A-47B5-9A09-E210A2DF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8567C-2595-4B02-8AB3-1EDA9DF9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7C3DE-3CBA-46F2-8D9C-3BFD44B3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DB1AE-428B-492A-AE0B-F667683C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12C22-5273-40DD-9C0F-28D589F7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3813-43A9-4D6C-8194-84AE4497AEE8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E240-68ED-46B1-9E56-512AC30DD0E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7110-E270-473F-8B4E-7F90C021AC92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B325-AFF5-44B1-80E4-BEB6440C779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E5B1-5F2C-42BE-8EE5-C268A96452E4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9311-BB71-45E4-9C7C-E32BE3C2341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3CAF-B813-4DBE-B91A-4BEDCC8E4D6C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6CE6-751F-4199-9FCB-1C7712748C6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7B9C-0CC0-4584-B0F2-0D684D0E77AF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86D7-F9BD-46D2-B97E-C1403F4C020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323C-9F8C-43FC-A4E9-FA0F8FE7023A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4B7B-E7EC-406B-A99A-7F58AF1860A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C256-6B2A-485D-AB23-192128EF7EE7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12A8-9CF6-4CF5-A2F6-083317ADE3C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231C-6B38-4D58-BBE7-56F1DFC9E753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7273-A21B-45E7-BB7C-73503A53B64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4328-863C-45E7-8EFA-F5D3FDC902E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81B1-609A-4539-A809-CEB7D4C6982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BA11-128C-4C4D-84BC-2E2548EA44C6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6263-A0A4-4E1E-9743-E44E30FCF3A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4655-700E-4B14-B687-83E8631D6F41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CEDA-F11A-47F9-A0E6-18093A1F53A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3977-1B13-4F47-A9BD-EC9C9AD9C3E7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4F38-CE9F-4976-A2F1-4019B9CD9FB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587353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image/32bb9c8b071d53fcfd1f101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d9d8ec"/>
                </a:solidFill>
                <a:latin typeface="Arial"/>
              </a:rPr>
              <a:t>爬山虎的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原来爬山虎是有脚的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长在茎上。茎上长叶柄的地方，反面伸出枝状的六七根细丝，每根细丝像蜗牛的触角。细丝跟新叶子一样，也是嫩红的。这就是爬山虎的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生长的地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的样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的颜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d5f0aba0f77ff29c46106412"/>
          <p:cNvPicPr/>
          <p:nvPr/>
        </p:nvPicPr>
        <p:blipFill>
          <a:blip r:embed="rId1"/>
          <a:stretch/>
        </p:blipFill>
        <p:spPr>
          <a:xfrm>
            <a:off x="5364000" y="3500280"/>
            <a:ext cx="352908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原来爬山虎是有脚的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50920" y="1599840"/>
            <a:ext cx="8353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长在茎上。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茎上长叶柄的地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伸出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枝状的六七根细丝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根细丝像蜗牛的触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细丝跟新叶子一样，也是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嫩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。这就是爬山虎的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生长的地方：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茎上长叶柄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的样子：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枝状的六七根细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的颜色：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嫩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7" descr="d5f0aba0f77ff29c46106412"/>
          <p:cNvPicPr/>
          <p:nvPr/>
        </p:nvPicPr>
        <p:blipFill>
          <a:blip r:embed="rId1"/>
          <a:stretch/>
        </p:blipFill>
        <p:spPr>
          <a:xfrm>
            <a:off x="7294680" y="2955960"/>
            <a:ext cx="1392120" cy="14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1" lang="zh-CN" sz="3800" spc="-1" strike="noStrike">
                <a:solidFill>
                  <a:srgbClr val="0066ff"/>
                </a:solidFill>
                <a:latin typeface="Arial"/>
              </a:rPr>
              <a:t>就是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爬山虎的脚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4886860_142642926307_2"/>
          <p:cNvPicPr/>
          <p:nvPr/>
        </p:nvPicPr>
        <p:blipFill>
          <a:blip r:embed="rId1"/>
          <a:srcRect l="0" t="0" r="883" b="5632"/>
          <a:stretch/>
        </p:blipFill>
        <p:spPr>
          <a:xfrm>
            <a:off x="457200" y="1600200"/>
            <a:ext cx="806436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8" descr="3414854417455389061"/>
          <p:cNvPicPr/>
          <p:nvPr/>
        </p:nvPicPr>
        <p:blipFill>
          <a:blip r:embed="rId1"/>
          <a:stretch/>
        </p:blipFill>
        <p:spPr>
          <a:xfrm>
            <a:off x="0" y="342900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066920" y="1412640"/>
            <a:ext cx="4825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触着墙的时候，六七根细丝的头上就变成小圆片，巴住墙。细丝原先是直的，现在弯曲了，把爬山虎的嫩茎拉一把，使它紧贴在墙上。爬山虎就是这样一脚一脚地往上爬。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1047c1bbf56b8bf6ff64f45d41ae62e4"/>
          <p:cNvPicPr/>
          <p:nvPr/>
        </p:nvPicPr>
        <p:blipFill>
          <a:blip r:embed="rId2"/>
          <a:stretch/>
        </p:blipFill>
        <p:spPr>
          <a:xfrm>
            <a:off x="0" y="0"/>
            <a:ext cx="4427640" cy="32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68360" y="1483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触着墙的时候，六七根细丝的头上就变成小圆片，巴住墙。细丝原先是直的，现在弯曲了，把爬山虎的嫩茎拉一把，使它紧贴在墙上。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爬山虎就是这样一脚一脚地往上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6" descr="1047c1bbf56b8bf6ff64f45d41ae62e4"/>
          <p:cNvPicPr/>
          <p:nvPr/>
        </p:nvPicPr>
        <p:blipFill>
          <a:blip r:embed="rId1"/>
          <a:stretch/>
        </p:blipFill>
        <p:spPr>
          <a:xfrm>
            <a:off x="5364000" y="4508640"/>
            <a:ext cx="3156120" cy="2160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3414854417455389061"/>
          <p:cNvPicPr/>
          <p:nvPr/>
        </p:nvPicPr>
        <p:blipFill>
          <a:blip r:embed="rId2"/>
          <a:stretch/>
        </p:blipFill>
        <p:spPr>
          <a:xfrm>
            <a:off x="324000" y="4581360"/>
            <a:ext cx="4103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68360" y="1483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墙的时候，六七根细丝的头上就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小圆片，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住墙。细丝原先是直的，现在弯曲了，把爬山虎的嫩茎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把，使它紧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墙上。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爬山虎就是这样一脚一脚地往上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爬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1047c1bbf56b8bf6ff64f45d41ae62e4"/>
          <p:cNvPicPr/>
          <p:nvPr/>
        </p:nvPicPr>
        <p:blipFill>
          <a:blip r:embed="rId1"/>
          <a:stretch/>
        </p:blipFill>
        <p:spPr>
          <a:xfrm>
            <a:off x="5364000" y="4508640"/>
            <a:ext cx="3156120" cy="21603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3414854417455389061"/>
          <p:cNvPicPr/>
          <p:nvPr/>
        </p:nvPicPr>
        <p:blipFill>
          <a:blip r:embed="rId2"/>
          <a:stretch/>
        </p:blipFill>
        <p:spPr>
          <a:xfrm>
            <a:off x="755640" y="4581360"/>
            <a:ext cx="4103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68360" y="1483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墙的时候，六七根细丝的头上就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小圆片，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住墙。细丝原先是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直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现在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弯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，把爬山虎的嫩茎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把，使它紧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墙上。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爬山虎就是这样一脚一脚地往上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爬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1047c1bbf56b8bf6ff64f45d41ae62e4"/>
          <p:cNvPicPr/>
          <p:nvPr/>
        </p:nvPicPr>
        <p:blipFill>
          <a:blip r:embed="rId1"/>
          <a:stretch/>
        </p:blipFill>
        <p:spPr>
          <a:xfrm>
            <a:off x="5580000" y="4468680"/>
            <a:ext cx="3156120" cy="2160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3414854417455389061"/>
          <p:cNvPicPr/>
          <p:nvPr/>
        </p:nvPicPr>
        <p:blipFill>
          <a:blip r:embed="rId2"/>
          <a:stretch/>
        </p:blipFill>
        <p:spPr>
          <a:xfrm>
            <a:off x="971640" y="4581360"/>
            <a:ext cx="41036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5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5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68360" y="119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墙的时候，六七根细丝的头上就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小圆片，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住墙。细丝原先是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直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现在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弯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，把爬山虎的嫩茎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把，使它紧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墙上。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爬山虎就是这样一脚一脚地往上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爬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1047c1bbf56b8bf6ff64f45d41ae62e4"/>
          <p:cNvPicPr/>
          <p:nvPr/>
        </p:nvPicPr>
        <p:blipFill>
          <a:blip r:embed="rId1"/>
          <a:stretch/>
        </p:blipFill>
        <p:spPr>
          <a:xfrm>
            <a:off x="5580000" y="4468680"/>
            <a:ext cx="3156120" cy="21607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755640" y="4581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画线的句子，把（         ）比作（           ）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写出了爬山虎的脚的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形状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同时也表达出了作者对爬山虎的脚的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喜爱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最后一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06728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爬山虎的脚（    ）没触着墙，不几天（    ）萎了，后来连（    ）也没有了。触着墙的，细丝和小圆片（     ）变成灰色。不要（     ）那些灰色的脚，那些脚巴在墙上相当（    ），（    ）你的手指不费一点儿劲，（      ）拉下爬山虎的一根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5" descr="111348036252803"/>
          <p:cNvPicPr/>
          <p:nvPr/>
        </p:nvPicPr>
        <p:blipFill>
          <a:blip r:embed="rId1"/>
          <a:stretch/>
        </p:blipFill>
        <p:spPr>
          <a:xfrm>
            <a:off x="324000" y="1628640"/>
            <a:ext cx="345744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最后一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276720" y="1341000"/>
            <a:ext cx="5410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（要是 ）没触着墙，不几天（就  ）萎了，后来连（痕迹）也没有了。触着墙的，细丝和小圆片（逐渐）变成灰色。不要（   瞧不起）那些灰色的脚，那些脚巴在墙上相当（牢固），（要是）你的手指不费一点儿劲，（休想 ）拉下爬山虎的一根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WordArt 4" descr=""/>
          <p:cNvPicPr/>
          <p:nvPr/>
        </p:nvPicPr>
        <p:blipFill>
          <a:blip r:embed="rId1"/>
          <a:stretch/>
        </p:blipFill>
        <p:spPr>
          <a:xfrm>
            <a:off x="385920" y="5580000"/>
            <a:ext cx="5373360" cy="9590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2008410103741771"/>
          <p:cNvPicPr/>
          <p:nvPr/>
        </p:nvPicPr>
        <p:blipFill>
          <a:blip r:embed="rId2"/>
          <a:stretch/>
        </p:blipFill>
        <p:spPr>
          <a:xfrm>
            <a:off x="250920" y="1341360"/>
            <a:ext cx="2795400" cy="35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叶圣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0" y="1483920"/>
            <a:ext cx="4114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叶圣陶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9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）原名叶绍钧，汉族人。字秉臣。江苏苏州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著名作家、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教育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编辑家、文学出版家和社会活动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img200809061619060"/>
          <p:cNvPicPr/>
          <p:nvPr/>
        </p:nvPicPr>
        <p:blipFill>
          <a:blip r:embed="rId2"/>
          <a:stretch/>
        </p:blipFill>
        <p:spPr>
          <a:xfrm>
            <a:off x="395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720" y="333000"/>
            <a:ext cx="769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想一想，作者为什么能把爬山虎的脚写得这样生动具体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276720" y="2204640"/>
            <a:ext cx="5688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首先进行了长时间的连续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再（对爬山虎的叶子和脚）进行了细致的观察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2008410103741771"/>
          <p:cNvPicPr/>
          <p:nvPr/>
        </p:nvPicPr>
        <p:blipFill>
          <a:blip r:embed="rId1"/>
          <a:stretch/>
        </p:blipFill>
        <p:spPr>
          <a:xfrm>
            <a:off x="250920" y="1417680"/>
            <a:ext cx="2795400" cy="3564000"/>
          </a:xfrm>
          <a:prstGeom prst="rect">
            <a:avLst/>
          </a:prstGeom>
          <a:ln w="0">
            <a:noFill/>
          </a:ln>
        </p:spPr>
      </p:pic>
      <p:sp>
        <p:nvSpPr>
          <p:cNvPr id="572" name="WordArt 6"/>
          <p:cNvSpPr txBox="1"/>
          <p:nvPr/>
        </p:nvSpPr>
        <p:spPr>
          <a:xfrm>
            <a:off x="1187280" y="4941720"/>
            <a:ext cx="7315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宋体"/>
              </a:rPr>
              <a:t>学习课文后，你有什么体会或收获？</a:t>
            </a:r>
            <a:endParaRPr b="1" i="1" lang="en-US" sz="24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叶圣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3928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文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叶圣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名 叶绍钧 字秉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族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汉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生地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江苏苏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生日期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逝世日期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职业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家、教育家、社会活动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表作品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隔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线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倪焕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脚步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西川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稻草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5" descr="32bb9c8b071d53fcfd1f10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557360"/>
            <a:ext cx="2087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听课文录音，思考与回答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1773360"/>
            <a:ext cx="6923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从哪些词句可以看出来，这是作者经过了长时间的连续观察之后才写成的文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细致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爬山虎的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爬墙虎2"/>
          <p:cNvPicPr/>
          <p:nvPr/>
        </p:nvPicPr>
        <p:blipFill>
          <a:blip r:embed="rId1"/>
          <a:srcRect l="0" t="44809" r="0" b="0"/>
          <a:stretch/>
        </p:blipFill>
        <p:spPr>
          <a:xfrm>
            <a:off x="4284720" y="4581360"/>
            <a:ext cx="4464000" cy="19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学校操场北边墙上</a:t>
            </a:r>
            <a:r>
              <a:rPr b="0" lang="zh-CN" sz="3000" spc="-1" strike="noStrike">
                <a:solidFill>
                  <a:srgbClr val="ff3399"/>
                </a:solidFill>
                <a:latin typeface="Arial"/>
              </a:rPr>
              <a:t>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爬墙虎。我家也有爬山虎，从小院的西墙</a:t>
            </a:r>
            <a:r>
              <a:rPr b="0" lang="zh-CN" sz="3000" spc="-1" strike="noStrike">
                <a:solidFill>
                  <a:srgbClr val="ff3399"/>
                </a:solidFill>
                <a:latin typeface="Arial"/>
              </a:rPr>
              <a:t>爬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上去，在房顶上</a:t>
            </a:r>
            <a:r>
              <a:rPr b="0" lang="zh-CN" sz="3000" spc="-1" strike="noStrike">
                <a:solidFill>
                  <a:srgbClr val="ff3399"/>
                </a:solidFill>
                <a:latin typeface="Arial"/>
              </a:rPr>
              <a:t>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了一大片地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4000" y="2494080"/>
            <a:ext cx="8002440" cy="36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20091020143352_2062140593"/>
          <p:cNvPicPr/>
          <p:nvPr/>
        </p:nvPicPr>
        <p:blipFill>
          <a:blip r:embed="rId1"/>
          <a:stretch/>
        </p:blipFill>
        <p:spPr>
          <a:xfrm>
            <a:off x="684360" y="1916280"/>
            <a:ext cx="8064360" cy="4670280"/>
          </a:xfrm>
          <a:prstGeom prst="rect">
            <a:avLst/>
          </a:prstGeom>
          <a:ln w="0">
            <a:noFill/>
          </a:ln>
        </p:spPr>
      </p:pic>
      <p:sp>
        <p:nvSpPr>
          <p:cNvPr id="520" name="WordArt 6"/>
          <p:cNvSpPr txBox="1"/>
          <p:nvPr/>
        </p:nvSpPr>
        <p:spPr>
          <a:xfrm>
            <a:off x="2268360" y="36450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宋体"/>
              </a:rPr>
              <a:t>学校和我家都有爬山虎。</a:t>
            </a:r>
            <a:endParaRPr b="1" i="1" lang="en-US" sz="2400" spc="1" strike="noStrike" u="sng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202746"/>
          <p:cNvPicPr/>
          <p:nvPr/>
        </p:nvPicPr>
        <p:blipFill>
          <a:blip r:embed="rId1"/>
          <a:stretch/>
        </p:blipFill>
        <p:spPr>
          <a:xfrm>
            <a:off x="0" y="0"/>
            <a:ext cx="4762440" cy="68198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5977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爬山虎的叶子好看得很 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356000" y="1341000"/>
            <a:ext cx="478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爬山虎刚长出来的叶子是（         ）的，不几天叶子（     ），就变成（    ）的。爬山虎的嫩叶，不大引人注意，引人注意的是（           ）。那些叶子（     ），（         ）。叶尖一顺儿（     ），在墙上铺得（       ），没有（        ）的，也不留（             ）。一阵风拂过，一墙的叶子就（         ），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183280" y="274320"/>
            <a:ext cx="396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爬山虎的叶子好看得很 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1844280"/>
            <a:ext cx="80643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刚长出来的叶子是（         ）的，不几天叶子（     ），就变成（    ）的。爬山虎的嫩叶，不大引人注意，引人注意的是（           ）。那些叶子（     ），（         ）。叶尖一顺儿（     ），在墙上铺得（       ），没有（        ）的，也不留（             ）。一阵风拂过，一墙的叶子就（         ），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202746"/>
          <p:cNvPicPr/>
          <p:nvPr/>
        </p:nvPicPr>
        <p:blipFill>
          <a:blip r:embed="rId1"/>
          <a:stretch/>
        </p:blipFill>
        <p:spPr>
          <a:xfrm>
            <a:off x="0" y="38160"/>
            <a:ext cx="4762440" cy="68198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343190preview2"/>
          <p:cNvPicPr/>
          <p:nvPr/>
        </p:nvPicPr>
        <p:blipFill>
          <a:blip r:embed="rId2"/>
          <a:stretch/>
        </p:blipFill>
        <p:spPr>
          <a:xfrm>
            <a:off x="4788000" y="1773360"/>
            <a:ext cx="38098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爬山虎的叶子好看得很 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39640" y="1844640"/>
            <a:ext cx="806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爬山虎刚长出来的叶子是（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嫩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）的，不几天叶子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长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），就变成（  </a:t>
            </a:r>
            <a:r>
              <a:rPr b="0" lang="zh-CN" sz="2800" spc="-1" strike="noStrike">
                <a:solidFill>
                  <a:srgbClr val="9933ff"/>
                </a:solidFill>
                <a:latin typeface="Arial"/>
              </a:rPr>
              <a:t>嫩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）的。爬山虎的嫩叶，不大引人注意，引人注意的是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长大了的叶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。那些叶子（ </a:t>
            </a:r>
            <a:r>
              <a:rPr b="0" lang="zh-CN" sz="2800" spc="-1" strike="noStrike">
                <a:solidFill>
                  <a:srgbClr val="9933ff"/>
                </a:solidFill>
                <a:latin typeface="Arial"/>
              </a:rPr>
              <a:t>绿得那么新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看着非常舒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。叶尖一顺儿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朝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），在墙上铺得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那么均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），没有（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重叠起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）的，也不留（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一点儿空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。一阵风拂过，一墙的叶子就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漾起波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，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好看得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182920" y="274320"/>
            <a:ext cx="380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爬山虎的叶子好看得很 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1844280"/>
            <a:ext cx="80643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刚长出来的叶子是（         ）的，不几天叶子（     ），就变成（    ）的。爬山虎的嫩叶，不大引人注意，引人注意的是（           ）。那些叶子（     ），（         ）。叶尖一顺儿（     ），在墙上铺得（       ），没有（        ）的，也不留（             ）。一阵风拂过，一墙的叶子就（         ），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202746"/>
          <p:cNvPicPr/>
          <p:nvPr/>
        </p:nvPicPr>
        <p:blipFill>
          <a:blip r:embed="rId1"/>
          <a:stretch/>
        </p:blipFill>
        <p:spPr>
          <a:xfrm>
            <a:off x="0" y="38160"/>
            <a:ext cx="4762440" cy="68198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343190preview2"/>
          <p:cNvPicPr/>
          <p:nvPr/>
        </p:nvPicPr>
        <p:blipFill>
          <a:blip r:embed="rId2"/>
          <a:stretch/>
        </p:blipFill>
        <p:spPr>
          <a:xfrm>
            <a:off x="4788000" y="1773360"/>
            <a:ext cx="38098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6:20:40Z</dcterms:created>
  <dc:creator/>
  <dc:description/>
  <dc:language>en-US</dc:language>
  <cp:lastModifiedBy>万润仪器贸易公司</cp:lastModifiedBy>
  <dcterms:modified xsi:type="dcterms:W3CDTF">2020-08-24T03:32:16Z</dcterms:modified>
  <cp:revision>7</cp:revision>
  <dc:subject/>
  <dc:title>爬山虎的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